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012-85A6-4493-8020-7285A9C3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53D-BA0E-42B7-A1EB-4338145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FA5-530C-44C6-8436-3FB9F0B4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834-8024-4B6F-972A-7D301EB9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CC0-C4C4-4936-BB23-5818CF53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8CF-14CA-494D-AE44-419BA79C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4FD-8828-4E6A-B87C-834003DA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62B-ADFB-4ACC-8635-AD92C92A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242-0384-4310-9C1F-1D983F8F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A89-E048-42F4-8A2F-20F615D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671-3630-4CEB-987E-B61A461E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7CC-E8C7-4D34-ACC9-783BD43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E9B0-5D0B-4EEF-8969-56136A8C4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place.com/kennedy/early-portrait-age-eleven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istoryplace.com/kennedy/early-growing-up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yplace.com/kennedy/early-choate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43.tower.com/images/mm100359423/cuban-missile-crisis-e-j-carter-hardcover-cover-art.jpg&amp;imgrefurl=http://www.tower.com/cuban-missile-crisis-e-j-carter-hardcover/wapi/100359423&amp;usg=__khcsEQyIir7wadfKhgPssCA0hGE=&amp;h=254&amp;w=188&amp;sz=13&amp;hl=en&amp;start=159&amp;zoom=0&amp;tbnid=9ArHS_NOXWWcaM:&amp;tbnh=111&amp;tbnw=82&amp;ei=8nXITeTCNuXM0AGwr5y6BA&amp;prev=/search%3Fq%3DThe%2BMissile%2BCrisis%26hl%3Den%26sa%3DX%26biw%3D1003%26bih%3D588%26tbm%3Disch&amp;itbs=1&amp;iact=rc&amp;dur=31&amp;page=12&amp;ndsp=15&amp;ved=1t:429,r:11,s:159&amp;tx=28&amp;ty=9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5jk_header%5B1%5D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211720" cy="293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43240" y="304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love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magesCAYWMS3V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1393920" cy="1817640"/>
          </a:xfrm>
          <a:prstGeom prst="rect">
            <a:avLst/>
          </a:prstGeom>
          <a:ln w="0">
            <a:noFill/>
          </a:ln>
        </p:spPr>
      </p:pic>
      <p:pic>
        <p:nvPicPr>
          <p:cNvPr id="79" name="imagesCAZBRJFO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287964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is%5B1%5D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163368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is%5B2%5D" descr=""/>
          <p:cNvPicPr/>
          <p:nvPr/>
        </p:nvPicPr>
        <p:blipFill>
          <a:blip r:embed="rId4"/>
          <a:stretch/>
        </p:blipFill>
        <p:spPr>
          <a:xfrm>
            <a:off x="7086600" y="15238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is%5B3%5D" descr=""/>
          <p:cNvPicPr/>
          <p:nvPr/>
        </p:nvPicPr>
        <p:blipFill>
          <a:blip r:embed="rId5"/>
          <a:stretch/>
        </p:blipFill>
        <p:spPr>
          <a:xfrm>
            <a:off x="3332160" y="4191120"/>
            <a:ext cx="191304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is%5B4%5D" descr=""/>
          <p:cNvPicPr/>
          <p:nvPr/>
        </p:nvPicPr>
        <p:blipFill>
          <a:blip r:embed="rId6"/>
          <a:stretch/>
        </p:blipFill>
        <p:spPr>
          <a:xfrm>
            <a:off x="6172200" y="4572000"/>
            <a:ext cx="1625760" cy="154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ck’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John’s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hildh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was a very handsome little bo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liked to dare his brother Jo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did terrible in school. He got bad grades and didn’t follow the ru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-early-portrait-age-eleve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30720" y="1981080"/>
            <a:ext cx="28447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ing To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in high school Jack played foot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competed on the swimming te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-early-growing-up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76520"/>
            <a:ext cx="3057480" cy="441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went to Harvard Univers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orked hard in colle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he graduated he graduated with hon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-early-choat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981080"/>
            <a:ext cx="4343400" cy="30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ng In The Na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’s job was to look for enemy destroy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nd his crew’s boat was PT- 1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ight they got hit!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ankfully their crew eventually found resc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3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0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600200"/>
            <a:ext cx="354492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Marr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got married to a woman named Jacki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s very beautiful and sma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then had four kids but only two survived infa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s%5B5%5D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29257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nnedy’s Presiden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ran for president in 196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s elec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his family moved to the white ho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took some pets to the white house with hi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sCAR41POO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325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nnedy’s Dea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went to Dallas , Texas and was shot the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mourned over his d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ill be a life well remembe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74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mages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10200" cy="280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128px-John_F_Kennedy_Signature_2.svg%5B1%5D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2286000" cy="534960"/>
          </a:xfrm>
          <a:prstGeom prst="rect">
            <a:avLst/>
          </a:prstGeom>
          <a:ln w="0">
            <a:noFill/>
          </a:ln>
        </p:spPr>
      </p:pic>
      <p:pic>
        <p:nvPicPr>
          <p:cNvPr id="71" name="imagesCA3H4F6B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2427480" cy="1817640"/>
          </a:xfrm>
          <a:prstGeom prst="rect">
            <a:avLst/>
          </a:prstGeom>
          <a:ln w="0">
            <a:noFill/>
          </a:ln>
        </p:spPr>
      </p:pic>
      <p:pic>
        <p:nvPicPr>
          <p:cNvPr id="72" name="imagesCABAFXWB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imagesCACTBSPZ" descr=""/>
          <p:cNvPicPr/>
          <p:nvPr/>
        </p:nvPicPr>
        <p:blipFill>
          <a:blip r:embed="rId4"/>
          <a:stretch/>
        </p:blipFill>
        <p:spPr>
          <a:xfrm>
            <a:off x="3276720" y="1752480"/>
            <a:ext cx="2324160" cy="1395360"/>
          </a:xfrm>
          <a:prstGeom prst="rect">
            <a:avLst/>
          </a:prstGeom>
          <a:ln w="0">
            <a:noFill/>
          </a:ln>
        </p:spPr>
      </p:pic>
      <p:pic>
        <p:nvPicPr>
          <p:cNvPr id="74" name="imagesCAMBQBVF" descr=""/>
          <p:cNvPicPr/>
          <p:nvPr/>
        </p:nvPicPr>
        <p:blipFill>
          <a:blip r:embed="rId5"/>
          <a:stretch/>
        </p:blipFill>
        <p:spPr>
          <a:xfrm>
            <a:off x="5943600" y="533520"/>
            <a:ext cx="2536920" cy="2593800"/>
          </a:xfrm>
          <a:prstGeom prst="rect">
            <a:avLst/>
          </a:prstGeom>
          <a:ln w="0">
            <a:noFill/>
          </a:ln>
        </p:spPr>
      </p:pic>
      <p:pic>
        <p:nvPicPr>
          <p:cNvPr id="75" name="imagesCASAFBVL" descr=""/>
          <p:cNvPicPr/>
          <p:nvPr/>
        </p:nvPicPr>
        <p:blipFill>
          <a:blip r:embed="rId6"/>
          <a:stretch/>
        </p:blipFill>
        <p:spPr>
          <a:xfrm>
            <a:off x="3429000" y="3505320"/>
            <a:ext cx="2057400" cy="2011320"/>
          </a:xfrm>
          <a:prstGeom prst="rect">
            <a:avLst/>
          </a:prstGeom>
          <a:ln w="0">
            <a:noFill/>
          </a:ln>
        </p:spPr>
      </p:pic>
      <p:pic>
        <p:nvPicPr>
          <p:cNvPr id="76" name="imagesCAWSAL1V" descr=""/>
          <p:cNvPicPr/>
          <p:nvPr/>
        </p:nvPicPr>
        <p:blipFill>
          <a:blip r:embed="rId7"/>
          <a:stretch/>
        </p:blipFill>
        <p:spPr>
          <a:xfrm>
            <a:off x="6248520" y="3505320"/>
            <a:ext cx="1417680" cy="1793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22:22:19Z</dcterms:created>
  <dc:creator>Al</dc:creator>
  <dc:description/>
  <dc:language>en-US</dc:language>
  <cp:lastModifiedBy>Al</cp:lastModifiedBy>
  <dcterms:modified xsi:type="dcterms:W3CDTF">2011-05-10T22:17:42Z</dcterms:modified>
  <cp:revision>1</cp:revision>
  <dc:subject/>
  <dc:title>John F. Kennedy</dc:title>
</cp:coreProperties>
</file>